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6865-2A65-4EF5-BAEF-6044453805BC}" type="slidenum"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Анализа односа трошкова и корист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-benefit analysis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циљ: утврђује колико ресурса би требало применити да би се постигао дефинисани циљ, метода: пореди улазни и излазни параметар у новчаним јединица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Анализа корисности и трошкова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-utility analysis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иљ: 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утврђује најбољи начин за трошење доступног буџета здравствене нег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тода: пореди трошкове 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у односу на године здравог жив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Анализа исплативост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-effectiveness analysis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циљ: утврђује како циљ може најефикасније да се постигне, метода: пореди трошкове у односу на неку меру ис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Анализа минимизирања трошкова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-minimization analysis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циљ: процењује која од две једнако корисне опције лечења има мање трошкове, метода: пореди трошкове различитих једнако делотворних опција лечењ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430560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5104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636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2400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636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2400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779292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5104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430560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45104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636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24000" y="198864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636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24000" y="4305600"/>
            <a:ext cx="250236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779292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51040" y="430560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1040" y="1988640"/>
            <a:ext cx="37926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305600"/>
            <a:ext cx="7772400" cy="21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0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3976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3860640"/>
            <a:ext cx="711036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НТЕГРИСАНЕ АКАДЕМСКЕ СТУДИЈ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ФАРМА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мет: Фармакоекономиј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ц. др Наташа Ђорђевић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студије не-инфериорности 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тврдити да ли алтернативни начин лечења није лошији од ''златног стандарда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ритеријум за процену еквивалентност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најмања клинички прихватљива разлика у исходима алтернативног начина лечења и ''златног стандарда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мена у анализи минимизирања трошко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резултат студије не-инфериорност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ahoma"/>
              </a:rPr>
              <a:t>не може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се употребити као довољан доказ еквивалентности исхода лечења алтернативним начином и ''златним стандардом''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студије еквиваленције 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2017440"/>
            <a:ext cx="81010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тврдити да ли је алтернативни начин лечења (јефтинији) ефикасан/безбедан као и ''златни стандард'' (скупљ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ритеријум за процену еквивалентност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највећа клинички прихватљива разлика у исходима алтернативног начина лечења и ''златног стандарда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мена у анализи минимизирања трошко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тат студије еквиваленције представља   најадекватнији доказ еквивалентности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схода лечења алтернативним начином и ''златним стандардом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одређена мала разлика у исходима лечења ипак се           не може искључити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применљивост у пракси 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чекивани бенефи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вођење јефтинијих а једнако добрих начина лечења у клиничку пракс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адекватно преусмеравање ограничених ресурса ка најоптималнијим алтернативама лечењ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опходни услов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имена валидних, тачних и одговарајућих метода евалуације исхода лечењ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имена 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лиз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минимизирања трошкова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само у случају клинички доказане еквивалентности алтернативних третма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Фармакоекономиј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Фармакоекономија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је наука која се бави описом и анализом трошкова терапије лековима у оквиру система здравствене заштите и друштва у цели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љев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нтификација, мерење, вредновање и поређење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оследиц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трошко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различитих алтернатива у лечењу које се разматрај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казивање на најбољу алтернативу из перспективе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хода лечењ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клиничких, хуманистичких и економск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линички и хуманистички     исходи</a:t>
            </a: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 лечењ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стављају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следиц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лечења – ефекат тј. резултат процеса лечења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инички исход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фикасност и безбедност лечењ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уманистички исход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есников функционални статус/квалитет живота: физичке и социјалне функције, опште здравље и благостање, задовољство животом..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Економски исходи</a:t>
            </a: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 лечењ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2017440"/>
            <a:ext cx="79218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стављају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рошков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тј. вредност ресурса употребљених у процесу лечењ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ле се н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ректне трошкове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медицинск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медицинска опрема, набавка, лаб. анализе, утрошено време медицинског особља, хоспитализација..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медицинск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транспорт, исхрана, породична нега, кућно лечење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директне трошкове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дна неспособност, прерана смрт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материјална добра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ahoma"/>
              </a:rPr>
              <a:t>бол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тња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Врсте фармакоекономских анализ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трошкови/доби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-benefi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трошкови/корисно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-utility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трошкови/ефека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-effectiveness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трошкови саме боле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-of-illnes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иза минимизације трошко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-minimization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ahoma"/>
              </a:rPr>
              <a:t>Фармакоекономски исход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05080" y="2637000"/>
          <a:ext cx="7200720" cy="3166920"/>
        </p:xfrm>
        <a:graphic>
          <a:graphicData uri="http://schemas.openxmlformats.org/drawingml/2006/table">
            <a:tbl>
              <a:tblPr/>
              <a:tblGrid>
                <a:gridCol w="1800000"/>
                <a:gridCol w="1800360"/>
                <a:gridCol w="1800000"/>
                <a:gridCol w="1800360"/>
              </a:tblGrid>
              <a:tr h="79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С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С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Ц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ХВ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ХВ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БА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ФЕРЕН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ХВ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БА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БА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Ц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16360" y="2060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ТРОШК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306720" y="420408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КОРИСТ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(ПОСЛЕДИЦ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4221000"/>
            <a:ext cx="7201080" cy="7923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ефинициј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 је врста фармакоекономске анализе која пореди трошкове различитих начина лечења чији су клинички исходи идентич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Одређивање најјефтиније од понуђених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ahoma"/>
              </a:rPr>
              <a:t>терапијски еквивалентних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алтернатива у лечењ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оређење паралелних лек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оређење различитих начина дозирања једног л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утврђивање еквивалентности исхода 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За примену анализе минимизације трошков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ahoma"/>
              </a:rPr>
              <a:t>еквивалентност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исхода алтернативних третмана мора бити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ahoma"/>
              </a:rPr>
              <a:t>клинички доказа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ликом утврђивања еквивалентности, посматрани исход мора би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клинички значајан за пацијен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ефикас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безбед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довољно дуго праће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евалуиран у рандомизираној клиничкој студиј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студије супериор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студије не-инфериор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студије еквиваленциј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Анализа минимизације трошкова</a:t>
            </a:r>
            <a:br>
              <a:rPr sz="3600"/>
            </a:br>
            <a:r>
              <a:rPr b="0" lang="sr-CS" sz="3200" spc="-1" strike="noStrike">
                <a:solidFill>
                  <a:srgbClr val="333399"/>
                </a:solidFill>
                <a:latin typeface="Tahoma"/>
              </a:rPr>
              <a:t>- студије супериорности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тврдити да ли је алтернативни начин лечења ефикаснији/безбеднији од ''златног стандарда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ритеријум за процену еквивалентност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честалост утврђених клиничких исхода алтернативног начина лечења и ''златног стандарда''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мена у анализи минимизирања трошко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резултат студије супериорност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ahoma"/>
              </a:rPr>
              <a:t>не може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 се употребити као довољан доказ еквивалентности исхода лечења алтернативним начином и ''златним стандардом''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4:03:03Z</dcterms:created>
  <dc:creator>Judy</dc:creator>
  <dc:description/>
  <dc:language>en-US</dc:language>
  <cp:lastModifiedBy>Korisnik</cp:lastModifiedBy>
  <dcterms:modified xsi:type="dcterms:W3CDTF">2012-03-03T13:03:23Z</dcterms:modified>
  <cp:revision>196</cp:revision>
  <dc:subject/>
  <dc:title>Fluid &amp; Electrolytes Management</dc:title>
</cp:coreProperties>
</file>